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4CB-1F54-4E1D-9640-DA77A6A8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725-6715-42DD-B126-4151F310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A50-8E7B-44B3-B2A7-7891A997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9B3-E2ED-4F45-8C53-635D747A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A64-2676-41E9-8C0E-B4C391B5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EFE-FA6C-4015-BB40-C5A96072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827-208E-4BB5-BE5F-5FA84F7D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245-1F2D-4A8B-8B82-DFB0493F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171-2605-477D-AF52-27A91754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07D-F8D0-40CF-91EA-8E10FFFB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781-3D73-462A-9F15-CC53BE6B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251-1986-4961-B8D8-A2DC3D0D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E8AC-848E-4350-96A3-2948525B6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NN DNSO WG-C Email P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86800" cy="5292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3120" y="11430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0T19:55:13Z</dcterms:created>
  <dc:creator>A.M.Rutkowski</dc:creator>
  <dc:description/>
  <dc:language>en-US</dc:language>
  <cp:lastModifiedBy>A.M.Rutkowski</cp:lastModifiedBy>
  <dcterms:modified xsi:type="dcterms:W3CDTF">1999-10-10T20:07:44Z</dcterms:modified>
  <cp:revision>2</cp:revision>
  <dc:subject/>
  <dc:title>ICANN DNSO WG-C Email Posts</dc:title>
</cp:coreProperties>
</file>