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F909-3C27-4A8E-A3AA-BDFEE2060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C5E5-BE20-4849-8F6C-767E7D0A3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F8C0-812F-42D9-A6D0-802506540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039E-26B0-41A5-AD13-92D5D68C1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B525-C998-4C32-94B2-D90DB17AA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8B4B-D453-4427-929F-2AA20478D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0ABE-672D-4850-B904-E3109A83D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7739-2FE5-49E5-807B-3B2758FA9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B0BE-AEFE-477F-A694-5484415DA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2EB7-8357-4059-ADED-086179D6A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5D0A-795E-4908-A078-92EE47805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4228-556F-4537-9E4E-7BED55737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05CF0-266C-43B9-8097-3332E89808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CANN DNSO WG-C Email Pos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04920" y="1371600"/>
            <a:ext cx="8686800" cy="52927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03120" y="1143000"/>
            <a:ext cx="133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sts per d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0T19:55:13Z</dcterms:created>
  <dc:creator>A.M.Rutkowski</dc:creator>
  <dc:description/>
  <dc:language>en-US</dc:language>
  <cp:lastModifiedBy>A.M.Rutkowski</cp:lastModifiedBy>
  <dcterms:modified xsi:type="dcterms:W3CDTF">1999-10-10T20:07:44Z</dcterms:modified>
  <cp:revision>2</cp:revision>
  <dc:subject/>
  <dc:title>ICANN DNSO WG-C Email Posts</dc:title>
</cp:coreProperties>
</file>