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2A4-8219-465E-BCD5-0945402E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894-C143-4B6B-8541-C4FAFA33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20D-60AF-4466-9372-5FA45B12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1EC-024D-463D-9D36-24A51A37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A01-1B2A-4A60-9961-D3D4D4E0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ADB-2968-4BB5-9B15-F8A258B3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BBD-0629-4441-BE70-32036EFB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CB8-E821-46EA-83E9-7109041F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82C-BCC1-4EB4-9B10-D508E67C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1EB-8ABF-430B-A083-54628DF2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706-D70A-4D3D-AC08-86BF7BE5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3B5-4CEB-4B96-89C3-64FE5857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5AEA-DA10-470D-8148-3B82E0794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NN DNSO WG-C Email P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86800" cy="5292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3120" y="11430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0T19:55:13Z</dcterms:created>
  <dc:creator>A.M.Rutkowski</dc:creator>
  <dc:description/>
  <dc:language>en-US</dc:language>
  <cp:lastModifiedBy>A.M.Rutkowski</cp:lastModifiedBy>
  <dcterms:modified xsi:type="dcterms:W3CDTF">1999-10-10T20:07:44Z</dcterms:modified>
  <cp:revision>2</cp:revision>
  <dc:subject/>
  <dc:title>ICANN DNSO WG-C Email Posts</dc:title>
</cp:coreProperties>
</file>